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83F7-246E-48C9-8D14-C05AF0C7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5F2D-D1ED-4D6F-93B5-EAC320966591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2B9-902A-4097-92B8-984B858EAFE4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B050-B0CC-4641-BFCE-25BC829ABE17}" type="slidenum">
              <a:rPr b="0" lang="en-US" sz="1200" spc="-1" strike="noStrike">
                <a:solidFill>
                  <a:srgbClr val="00499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5E2-F8E5-4856-94EE-DC6607D6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CE2-E6FE-4A96-B7F0-3043421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0FB-387D-4B21-A656-E4C6B73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0EC-3304-4313-828F-86FE9DD3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42C-D6BA-46BF-9493-4C1B8FC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641-7010-46C8-97C7-7F12AD6A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589-4623-4585-873E-53309AF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A19-C201-4AEF-8AFE-3743AA8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794-0DF2-4892-81AD-0E100EF0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224-E8F4-45FA-B9E2-55D1B674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0F8-C3B4-4ED3-9BD8-CA529257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0F8-9C58-442F-A961-523F1BC1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s://www.linkedin.com/company/barcelona-supercomputing-center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s://www.facebook.com/BSCCNS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s://twitter.com/bsc_cns" TargetMode="External"/><Relationship Id="rId10" Type="http://schemas.openxmlformats.org/officeDocument/2006/relationships/image" Target="../media/image6.png"/><Relationship Id="rId11" Type="http://schemas.openxmlformats.org/officeDocument/2006/relationships/hyperlink" Target="https://www.youtube.com/user/BSCCNS" TargetMode="Externa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36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6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dt" idx="1"/>
          </p:nvPr>
        </p:nvSpPr>
        <p:spPr>
          <a:xfrm>
            <a:off x="456840" y="6506640"/>
            <a:ext cx="213372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99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"/>
          </p:nvPr>
        </p:nvSpPr>
        <p:spPr>
          <a:xfrm>
            <a:off x="3124080" y="6506640"/>
            <a:ext cx="289584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"/>
          </p:nvPr>
        </p:nvSpPr>
        <p:spPr>
          <a:xfrm>
            <a:off x="6552720" y="6506640"/>
            <a:ext cx="213372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99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4C6-F6D7-40A1-B022-F132249DF5FE}" type="slidenum">
              <a:rPr b="0" lang="en-US" sz="2400" spc="-1" strike="noStrike">
                <a:solidFill>
                  <a:srgbClr val="00499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5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960640" y="270000"/>
            <a:ext cx="3276720" cy="9824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5427720" y="338040"/>
            <a:ext cx="904680" cy="471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AF0-EBB2-4D6A-BBF5-12A1FD455012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898A-7F93-492A-9936-8E96FF65ECC3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24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63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4EC-D6DD-4612-BF09-11BD8F7EF94C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64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04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43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8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23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Shape 1"/>
          <p:cNvSpPr/>
          <p:nvPr/>
        </p:nvSpPr>
        <p:spPr>
          <a:xfrm>
            <a:off x="6548400" y="196920"/>
            <a:ext cx="244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Calibri"/>
              </a:rPr>
              <a:t>IPSL, 14th of February 2017</a:t>
            </a:r>
            <a:endParaRPr b="0" lang="en-US" sz="1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7" name="TextShape 4"/>
          <p:cNvSpPr/>
          <p:nvPr/>
        </p:nvSpPr>
        <p:spPr>
          <a:xfrm>
            <a:off x="885960" y="4454640"/>
            <a:ext cx="6886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ar Bellprat (VERITAS-CCI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ncois Massonnet, Stefan Siegert, Chloé Prdohomme, Virginie Guemas, Francisco Doblas-Rey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48" name="Title 11"/>
          <p:cNvSpPr/>
          <p:nvPr/>
        </p:nvSpPr>
        <p:spPr>
          <a:xfrm>
            <a:off x="746280" y="2506680"/>
            <a:ext cx="738000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grating observational uncertainty in model – observation comparison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9" descr=""/>
          <p:cNvPicPr/>
          <p:nvPr/>
        </p:nvPicPr>
        <p:blipFill>
          <a:blip r:embed="rId1"/>
          <a:stretch/>
        </p:blipFill>
        <p:spPr>
          <a:xfrm>
            <a:off x="449280" y="2295360"/>
            <a:ext cx="4979880" cy="4499280"/>
          </a:xfrm>
          <a:prstGeom prst="rect">
            <a:avLst/>
          </a:prstGeom>
          <a:ln w="0">
            <a:noFill/>
          </a:ln>
        </p:spPr>
      </p:pic>
      <p:sp>
        <p:nvSpPr>
          <p:cNvPr id="488" name="Text Placeholder 2"/>
          <p:cNvSpPr/>
          <p:nvPr/>
        </p:nvSpPr>
        <p:spPr>
          <a:xfrm>
            <a:off x="431640" y="988920"/>
            <a:ext cx="85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Model evaluation often requires spatial and temporal averaging, requires the consideration of error correlation scal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tion scales mismatch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cxnSp>
        <p:nvCxnSpPr>
          <p:cNvPr id="490" name="Straight Arrow Connector 3"/>
          <p:cNvCxnSpPr/>
          <p:nvPr/>
        </p:nvCxnSpPr>
        <p:spPr>
          <a:xfrm flipV="1">
            <a:off x="6237000" y="3330360"/>
            <a:ext cx="1080" cy="2170800"/>
          </a:xfrm>
          <a:prstGeom prst="straightConnector1">
            <a:avLst/>
          </a:prstGeom>
          <a:ln w="25560">
            <a:solidFill>
              <a:srgbClr val="004990"/>
            </a:solidFill>
            <a:miter/>
            <a:tailEnd len="med" type="triangle" w="med"/>
          </a:ln>
        </p:spPr>
      </p:cxnSp>
      <p:grpSp>
        <p:nvGrpSpPr>
          <p:cNvPr id="491" name="Group 3"/>
          <p:cNvGrpSpPr/>
          <p:nvPr/>
        </p:nvGrpSpPr>
        <p:grpSpPr>
          <a:xfrm>
            <a:off x="5694480" y="2546280"/>
            <a:ext cx="1439640" cy="3550680"/>
            <a:chOff x="5694480" y="2546280"/>
            <a:chExt cx="1439640" cy="3550680"/>
          </a:xfrm>
        </p:grpSpPr>
        <p:sp>
          <p:nvSpPr>
            <p:cNvPr id="492" name="TextBox 2"/>
            <p:cNvSpPr/>
            <p:nvPr/>
          </p:nvSpPr>
          <p:spPr>
            <a:xfrm>
              <a:off x="5694480" y="5728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990"/>
                  </a:solidFill>
                  <a:latin typeface="Arial"/>
                </a:rPr>
                <a:t>Daily, 4 km 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93" name="TextBox 11"/>
            <p:cNvSpPr/>
            <p:nvPr/>
          </p:nvSpPr>
          <p:spPr>
            <a:xfrm>
              <a:off x="5789520" y="2546280"/>
              <a:ext cx="124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990"/>
                  </a:solidFill>
                  <a:latin typeface="Arial"/>
                </a:rPr>
                <a:t>Monthly, Ni</a:t>
              </a:r>
              <a:r>
                <a:rPr b="0" lang="de-CH" sz="1800" spc="-1" strike="noStrike">
                  <a:solidFill>
                    <a:srgbClr val="004990"/>
                  </a:solidFill>
                  <a:latin typeface="Arial"/>
                </a:rPr>
                <a:t>ño3.4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pic>
        <p:nvPicPr>
          <p:cNvPr id="494" name="TextBox 11" descr=""/>
          <p:cNvPicPr/>
          <p:nvPr/>
        </p:nvPicPr>
        <p:blipFill>
          <a:blip r:embed="rId2"/>
          <a:stretch/>
        </p:blipFill>
        <p:spPr>
          <a:xfrm>
            <a:off x="6413400" y="3638520"/>
            <a:ext cx="25974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5"/>
          <p:cNvSpPr/>
          <p:nvPr/>
        </p:nvSpPr>
        <p:spPr>
          <a:xfrm>
            <a:off x="6588000" y="6313320"/>
            <a:ext cx="211644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look-up” propagation figure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7" name="Text Placeholder 2"/>
          <p:cNvSpPr/>
          <p:nvPr/>
        </p:nvSpPr>
        <p:spPr>
          <a:xfrm>
            <a:off x="396720" y="1104840"/>
            <a:ext cx="87472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Use of error correlation scales: analytical solution that allows to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look-up propagation factor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3833640" y="6221520"/>
            <a:ext cx="184500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2898720" y="6200640"/>
            <a:ext cx="37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tial domain / correlation length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0" name="Picture 7" descr=""/>
          <p:cNvPicPr/>
          <p:nvPr/>
        </p:nvPicPr>
        <p:blipFill>
          <a:blip r:embed="rId1"/>
          <a:stretch/>
        </p:blipFill>
        <p:spPr>
          <a:xfrm>
            <a:off x="2052720" y="2136600"/>
            <a:ext cx="5181480" cy="39783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25"/>
          <p:cNvSpPr/>
          <p:nvPr/>
        </p:nvSpPr>
        <p:spPr>
          <a:xfrm rot="16200000">
            <a:off x="-134280" y="382500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of propagated uncertainty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2" name="TextBox 28"/>
          <p:cNvSpPr/>
          <p:nvPr/>
        </p:nvSpPr>
        <p:spPr>
          <a:xfrm>
            <a:off x="7234200" y="313848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/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length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6095880" y="6715080"/>
            <a:ext cx="319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prat et al. (2017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SE (in review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2592360" y="2038320"/>
            <a:ext cx="6438960" cy="3851280"/>
            <a:chOff x="2592360" y="2038320"/>
            <a:chExt cx="6438960" cy="3851280"/>
          </a:xfrm>
        </p:grpSpPr>
        <p:grpSp>
          <p:nvGrpSpPr>
            <p:cNvPr id="505" name="Group 20"/>
            <p:cNvGrpSpPr/>
            <p:nvPr/>
          </p:nvGrpSpPr>
          <p:grpSpPr>
            <a:xfrm>
              <a:off x="5727960" y="2038320"/>
              <a:ext cx="3303360" cy="3851280"/>
              <a:chOff x="5727960" y="2038320"/>
              <a:chExt cx="3303360" cy="3851280"/>
            </a:xfrm>
          </p:grpSpPr>
          <p:sp>
            <p:nvSpPr>
              <p:cNvPr id="506" name="TextBox 18"/>
              <p:cNvSpPr/>
              <p:nvPr/>
            </p:nvSpPr>
            <p:spPr>
              <a:xfrm>
                <a:off x="6589080" y="4822200"/>
                <a:ext cx="24422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4990"/>
                    </a:solidFill>
                    <a:latin typeface="Arial"/>
                  </a:rPr>
                  <a:t>Ex: Synoptic systems 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Temporal L=10 days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Spatial L=1000 km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7" name="Straight Connector 6"/>
              <p:cNvSpPr/>
              <p:nvPr/>
            </p:nvSpPr>
            <p:spPr>
              <a:xfrm flipH="1">
                <a:off x="6066000" y="5445360"/>
                <a:ext cx="529920" cy="26496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8" name="Straight Connector 11"/>
              <p:cNvSpPr/>
              <p:nvPr/>
            </p:nvSpPr>
            <p:spPr>
              <a:xfrm flipH="1" flipV="1">
                <a:off x="5921640" y="2970000"/>
                <a:ext cx="666720" cy="239112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09" name="Oval 14"/>
              <p:cNvSpPr/>
              <p:nvPr/>
            </p:nvSpPr>
            <p:spPr>
              <a:xfrm>
                <a:off x="5727960" y="2771640"/>
                <a:ext cx="387360" cy="404640"/>
              </a:xfrm>
              <a:prstGeom prst="ellipse">
                <a:avLst/>
              </a:prstGeom>
              <a:noFill/>
              <a:ln w="25560">
                <a:solidFill>
                  <a:srgbClr val="0049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10" name="Straight Connector 17"/>
              <p:cNvSpPr/>
              <p:nvPr/>
            </p:nvSpPr>
            <p:spPr>
              <a:xfrm flipV="1">
                <a:off x="6058080" y="2388960"/>
                <a:ext cx="672840" cy="441360"/>
              </a:xfrm>
              <a:prstGeom prst="line">
                <a:avLst/>
              </a:prstGeom>
              <a:ln w="9360">
                <a:solidFill>
                  <a:srgbClr val="0049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11" name="TextBox 19"/>
              <p:cNvSpPr/>
              <p:nvPr/>
            </p:nvSpPr>
            <p:spPr>
              <a:xfrm>
                <a:off x="6732000" y="2038320"/>
                <a:ext cx="2064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4990"/>
                    </a:solidFill>
                    <a:latin typeface="Arial"/>
                  </a:rPr>
                  <a:t>Propagation for monthly Ni</a:t>
                </a:r>
                <a:r>
                  <a:rPr b="0" lang="de-CH" sz="1600" spc="-1" strike="noStrike">
                    <a:solidFill>
                      <a:srgbClr val="004990"/>
                    </a:solidFill>
                    <a:latin typeface="Arial"/>
                  </a:rPr>
                  <a:t>ño3.4</a:t>
                </a:r>
                <a:endParaRPr b="0" lang="en-US" sz="16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512" name="Straight Connector 3"/>
            <p:cNvSpPr/>
            <p:nvPr/>
          </p:nvSpPr>
          <p:spPr>
            <a:xfrm>
              <a:off x="2592360" y="2970000"/>
              <a:ext cx="3328920" cy="0"/>
            </a:xfrm>
            <a:prstGeom prst="line">
              <a:avLst/>
            </a:prstGeom>
            <a:ln w="22320">
              <a:solidFill>
                <a:srgbClr val="00499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to multi-observatio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14" name="Text Placeholder 2"/>
          <p:cNvSpPr/>
          <p:nvPr/>
        </p:nvSpPr>
        <p:spPr>
          <a:xfrm>
            <a:off x="250920" y="1135080"/>
            <a:ext cx="96091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Propagation assuming synoptic scales (1000 km, 10 days) of weather systems agrees well with deviations between existing product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15" name="Group 21"/>
          <p:cNvGrpSpPr/>
          <p:nvPr/>
        </p:nvGrpSpPr>
        <p:grpSpPr>
          <a:xfrm>
            <a:off x="1376280" y="2384280"/>
            <a:ext cx="6191280" cy="4318200"/>
            <a:chOff x="1376280" y="2384280"/>
            <a:chExt cx="6191280" cy="4318200"/>
          </a:xfrm>
        </p:grpSpPr>
        <p:pic>
          <p:nvPicPr>
            <p:cNvPr id="516" name="Picture 7" descr=""/>
            <p:cNvPicPr/>
            <p:nvPr/>
          </p:nvPicPr>
          <p:blipFill>
            <a:blip r:embed="rId1"/>
            <a:stretch/>
          </p:blipFill>
          <p:spPr>
            <a:xfrm>
              <a:off x="1376280" y="2384280"/>
              <a:ext cx="5694480" cy="431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17"/>
            <p:cNvGrpSpPr/>
            <p:nvPr/>
          </p:nvGrpSpPr>
          <p:grpSpPr>
            <a:xfrm>
              <a:off x="5122800" y="3227400"/>
              <a:ext cx="2444760" cy="1872000"/>
              <a:chOff x="5122800" y="3227400"/>
              <a:chExt cx="2444760" cy="1872000"/>
            </a:xfrm>
          </p:grpSpPr>
          <p:grpSp>
            <p:nvGrpSpPr>
              <p:cNvPr id="518" name="Group 14"/>
              <p:cNvGrpSpPr/>
              <p:nvPr/>
            </p:nvGrpSpPr>
            <p:grpSpPr>
              <a:xfrm>
                <a:off x="5122800" y="3227400"/>
                <a:ext cx="2444760" cy="1872000"/>
                <a:chOff x="5122800" y="3227400"/>
                <a:chExt cx="2444760" cy="1872000"/>
              </a:xfrm>
            </p:grpSpPr>
            <p:sp>
              <p:nvSpPr>
                <p:cNvPr id="519" name="Straight Connector 6"/>
                <p:cNvSpPr/>
                <p:nvPr/>
              </p:nvSpPr>
              <p:spPr>
                <a:xfrm>
                  <a:off x="5122800" y="3455640"/>
                  <a:ext cx="190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0" name="TextBox 8"/>
                <p:cNvSpPr/>
                <p:nvPr/>
              </p:nvSpPr>
              <p:spPr>
                <a:xfrm>
                  <a:off x="5467320" y="3227400"/>
                  <a:ext cx="1499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pagated CCI uncertainty</a:t>
                  </a:r>
                  <a:endParaRPr b="0" lang="en-US" sz="14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1"/>
                <p:cNvSpPr/>
                <p:nvPr/>
              </p:nvSpPr>
              <p:spPr>
                <a:xfrm>
                  <a:off x="5122800" y="3754080"/>
                  <a:ext cx="209520" cy="18720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522" name="TextBox 12"/>
                <p:cNvSpPr/>
                <p:nvPr/>
              </p:nvSpPr>
              <p:spPr>
                <a:xfrm>
                  <a:off x="5467320" y="4809600"/>
                  <a:ext cx="210024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16"/>
              <p:cNvSpPr/>
              <p:nvPr/>
            </p:nvSpPr>
            <p:spPr>
              <a:xfrm>
                <a:off x="5466960" y="3750480"/>
                <a:ext cx="1591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fferent products</a:t>
                </a:r>
                <a:endParaRPr b="0" lang="en-US" sz="14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Rectangle 22"/>
          <p:cNvSpPr/>
          <p:nvPr/>
        </p:nvSpPr>
        <p:spPr>
          <a:xfrm>
            <a:off x="4032360" y="3227400"/>
            <a:ext cx="1090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921280" y="4059360"/>
            <a:ext cx="3421080" cy="1385280"/>
            <a:chOff x="5921280" y="4059360"/>
            <a:chExt cx="3421080" cy="1385280"/>
          </a:xfrm>
        </p:grpSpPr>
        <p:cxnSp>
          <p:nvCxnSpPr>
            <p:cNvPr id="526" name="Straight Arrow Connector 3"/>
            <p:cNvCxnSpPr/>
            <p:nvPr/>
          </p:nvCxnSpPr>
          <p:spPr>
            <a:xfrm flipV="1">
              <a:off x="5921280" y="4500000"/>
              <a:ext cx="1440360" cy="945000"/>
            </a:xfrm>
            <a:prstGeom prst="straightConnector1">
              <a:avLst/>
            </a:prstGeom>
            <a:ln w="22320">
              <a:solidFill>
                <a:srgbClr val="004990"/>
              </a:solidFill>
              <a:miter/>
              <a:headEnd len="med" type="triangle" w="med"/>
            </a:ln>
          </p:spPr>
        </p:cxnSp>
        <p:sp>
          <p:nvSpPr>
            <p:cNvPr id="527" name="TextBox 9"/>
            <p:cNvSpPr/>
            <p:nvPr/>
          </p:nvSpPr>
          <p:spPr>
            <a:xfrm>
              <a:off x="7361640" y="4059360"/>
              <a:ext cx="198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4990"/>
                  </a:solidFill>
                  <a:latin typeface="Arial"/>
                </a:rPr>
                <a:t>Assumes all observations are equally “likely”</a:t>
              </a:r>
              <a:endParaRPr b="0" lang="en-US" sz="16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29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ng verification ques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1" name="Picture 159" descr=""/>
          <p:cNvPicPr/>
          <p:nvPr/>
        </p:nvPicPr>
        <p:blipFill>
          <a:blip r:embed="rId1"/>
          <a:stretch/>
        </p:blipFill>
        <p:spPr>
          <a:xfrm>
            <a:off x="1862280" y="2257560"/>
            <a:ext cx="4725720" cy="4762440"/>
          </a:xfrm>
          <a:prstGeom prst="rect">
            <a:avLst/>
          </a:prstGeom>
          <a:ln w="0">
            <a:noFill/>
          </a:ln>
        </p:spPr>
      </p:pic>
      <p:cxnSp>
        <p:nvCxnSpPr>
          <p:cNvPr id="532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33" name="Text Placeholder 2"/>
          <p:cNvSpPr/>
          <p:nvPr/>
        </p:nvSpPr>
        <p:spPr>
          <a:xfrm>
            <a:off x="396720" y="981000"/>
            <a:ext cx="94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CI SST yields systematic higher correlation skill across many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models -&gt; the observational uncertainty is smaller in CCI SST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34" name="Group 19"/>
          <p:cNvGrpSpPr/>
          <p:nvPr/>
        </p:nvGrpSpPr>
        <p:grpSpPr>
          <a:xfrm>
            <a:off x="3349800" y="2475000"/>
            <a:ext cx="2347560" cy="2469960"/>
            <a:chOff x="3349800" y="2475000"/>
            <a:chExt cx="2347560" cy="2469960"/>
          </a:xfrm>
        </p:grpSpPr>
        <p:sp>
          <p:nvSpPr>
            <p:cNvPr id="535" name="Straight Connector 11"/>
            <p:cNvSpPr/>
            <p:nvPr/>
          </p:nvSpPr>
          <p:spPr>
            <a:xfrm>
              <a:off x="3484440" y="4618080"/>
              <a:ext cx="3682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36" name="Straight Connector 23"/>
            <p:cNvSpPr/>
            <p:nvPr/>
          </p:nvSpPr>
          <p:spPr>
            <a:xfrm>
              <a:off x="5330880" y="2798640"/>
              <a:ext cx="3664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37" name="Straight Connector 12"/>
            <p:cNvSpPr/>
            <p:nvPr/>
          </p:nvSpPr>
          <p:spPr>
            <a:xfrm flipV="1">
              <a:off x="3349800" y="2475000"/>
              <a:ext cx="2347560" cy="233208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538" name="TextBox 10"/>
          <p:cNvSpPr/>
          <p:nvPr/>
        </p:nvSpPr>
        <p:spPr>
          <a:xfrm>
            <a:off x="6554880" y="6743880"/>
            <a:ext cx="31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onnet et al. (2016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ion of “true” skill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40" name="Picture 159" descr=""/>
          <p:cNvPicPr/>
          <p:nvPr/>
        </p:nvPicPr>
        <p:blipFill>
          <a:blip r:embed="rId1"/>
          <a:stretch/>
        </p:blipFill>
        <p:spPr>
          <a:xfrm>
            <a:off x="1862280" y="2257560"/>
            <a:ext cx="4725720" cy="4762440"/>
          </a:xfrm>
          <a:prstGeom prst="rect">
            <a:avLst/>
          </a:prstGeom>
          <a:ln w="0">
            <a:noFill/>
          </a:ln>
        </p:spPr>
      </p:pic>
      <p:cxnSp>
        <p:nvCxnSpPr>
          <p:cNvPr id="541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542" name="Text Placeholder 2"/>
          <p:cNvSpPr/>
          <p:nvPr/>
        </p:nvSpPr>
        <p:spPr>
          <a:xfrm>
            <a:off x="581040" y="106992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rue climate predictions skill is systematically underestimated due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 uncertainties in the observation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43" name="Group 19"/>
          <p:cNvGrpSpPr/>
          <p:nvPr/>
        </p:nvGrpSpPr>
        <p:grpSpPr>
          <a:xfrm>
            <a:off x="3349800" y="2475000"/>
            <a:ext cx="2347560" cy="2469960"/>
            <a:chOff x="3349800" y="2475000"/>
            <a:chExt cx="2347560" cy="2469960"/>
          </a:xfrm>
        </p:grpSpPr>
        <p:sp>
          <p:nvSpPr>
            <p:cNvPr id="544" name="Straight Connector 11"/>
            <p:cNvSpPr/>
            <p:nvPr/>
          </p:nvSpPr>
          <p:spPr>
            <a:xfrm>
              <a:off x="3484440" y="4618080"/>
              <a:ext cx="3682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45" name="Straight Connector 23"/>
            <p:cNvSpPr/>
            <p:nvPr/>
          </p:nvSpPr>
          <p:spPr>
            <a:xfrm>
              <a:off x="5330880" y="2798640"/>
              <a:ext cx="366480" cy="32688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46" name="Straight Connector 12"/>
            <p:cNvSpPr/>
            <p:nvPr/>
          </p:nvSpPr>
          <p:spPr>
            <a:xfrm flipV="1">
              <a:off x="3349800" y="2475000"/>
              <a:ext cx="2347560" cy="2332080"/>
            </a:xfrm>
            <a:prstGeom prst="line">
              <a:avLst/>
            </a:prstGeom>
            <a:ln w="349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grpSp>
        <p:nvGrpSpPr>
          <p:cNvPr id="547" name="Group 16383"/>
          <p:cNvGrpSpPr/>
          <p:nvPr/>
        </p:nvGrpSpPr>
        <p:grpSpPr>
          <a:xfrm>
            <a:off x="3173400" y="1932120"/>
            <a:ext cx="5442120" cy="2779200"/>
            <a:chOff x="3173400" y="1932120"/>
            <a:chExt cx="5442120" cy="2779200"/>
          </a:xfrm>
        </p:grpSpPr>
        <p:sp>
          <p:nvSpPr>
            <p:cNvPr id="548" name="Freeform 30"/>
            <p:cNvSpPr/>
            <p:nvPr/>
          </p:nvSpPr>
          <p:spPr>
            <a:xfrm>
              <a:off x="5619960" y="1932120"/>
              <a:ext cx="1449360" cy="501480"/>
            </a:xfrm>
            <a:custGeom>
              <a:avLst/>
              <a:gdLst/>
              <a:ahLst/>
              <a:rect l="l" t="t" r="r" b="b"/>
              <a:pathLst>
                <a:path w="878541" h="467834">
                  <a:moveTo>
                    <a:pt x="878541" y="467834"/>
                  </a:moveTo>
                  <a:cubicBezTo>
                    <a:pt x="862105" y="246704"/>
                    <a:pt x="845670" y="25575"/>
                    <a:pt x="699247" y="1669"/>
                  </a:cubicBezTo>
                  <a:cubicBezTo>
                    <a:pt x="552824" y="-22237"/>
                    <a:pt x="107576" y="216823"/>
                    <a:pt x="0" y="32439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grpSp>
          <p:nvGrpSpPr>
            <p:cNvPr id="549" name="Group 28"/>
            <p:cNvGrpSpPr/>
            <p:nvPr/>
          </p:nvGrpSpPr>
          <p:grpSpPr>
            <a:xfrm>
              <a:off x="3173400" y="2380320"/>
              <a:ext cx="5442120" cy="2331000"/>
              <a:chOff x="3173400" y="2380320"/>
              <a:chExt cx="5442120" cy="2331000"/>
            </a:xfrm>
          </p:grpSpPr>
          <p:sp>
            <p:nvSpPr>
              <p:cNvPr id="550" name="Straight Connector 29"/>
              <p:cNvSpPr/>
              <p:nvPr/>
            </p:nvSpPr>
            <p:spPr>
              <a:xfrm flipV="1">
                <a:off x="3173400" y="2380320"/>
                <a:ext cx="2347920" cy="2331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551" name="TextBox 31"/>
              <p:cNvSpPr/>
              <p:nvPr/>
            </p:nvSpPr>
            <p:spPr>
              <a:xfrm>
                <a:off x="6905160" y="2391480"/>
                <a:ext cx="171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ue skill?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estimation of “true” skill 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1015920" y="1609560"/>
            <a:ext cx="7292880" cy="5092920"/>
          </a:xfrm>
          <a:prstGeom prst="rect">
            <a:avLst/>
          </a:prstGeom>
          <a:ln w="0">
            <a:noFill/>
          </a:ln>
        </p:spPr>
      </p:pic>
      <p:sp>
        <p:nvSpPr>
          <p:cNvPr id="554" name="Text Placeholder 2"/>
          <p:cNvSpPr/>
          <p:nvPr/>
        </p:nvSpPr>
        <p:spPr>
          <a:xfrm>
            <a:off x="581040" y="106992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easonal SST forecast skill is underestimated up to 0.2 correlation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6" name="Text Placeholder 2"/>
          <p:cNvSpPr/>
          <p:nvPr/>
        </p:nvSpPr>
        <p:spPr>
          <a:xfrm>
            <a:off x="566640" y="1079640"/>
            <a:ext cx="83296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Acknowledging observational uncertainty opens many new research questions that could be undertaken in CMUG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Reverse the verification question: Use multiple climate models to evaluate multiple observations (and their co-variability to other datasets) to measure their quality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Apply multi-model ideas to observations: do multi-observations means agree better with the models? Define metrics for model evaluation that allow to account observational uncertainties (e.g. ESMValTool).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Work on error propagation together with CCI teams, requires strong interactions which will benefit both communiti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1523880" y="3240000"/>
            <a:ext cx="60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8" name="TextBox 4"/>
          <p:cNvSpPr/>
          <p:nvPr/>
        </p:nvSpPr>
        <p:spPr>
          <a:xfrm>
            <a:off x="1681200" y="4589640"/>
            <a:ext cx="5759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llprat, O., Massonnet, F., Siegert, S., Guemas, V., Doblas-Reyes, F. J. (2017), Exploring observational uncertainty in verification of climate model predictions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mote Sensing of the Environment (RSE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n review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</a:rPr>
              <a:t>Massonnet, F., Bellprat, O., Guemas, V., Doblas-Reyes, F. J., (2016). Using climate models to estimate the quality of global observational data sets, </a:t>
            </a:r>
            <a:r>
              <a:rPr b="0" i="1" lang="fr-BE" sz="1600" spc="-1" strike="noStrike">
                <a:solidFill>
                  <a:srgbClr val="ffffff"/>
                </a:solidFill>
                <a:latin typeface="Arial"/>
              </a:rPr>
              <a:t>Science. (AAAS)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296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Extra Slides</a:t>
            </a:r>
            <a:br>
              <a:rPr sz="4400"/>
            </a:b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ertainties in climate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7000" y="1665360"/>
            <a:ext cx="8329320" cy="55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Climate model simulations and observations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are both </a:t>
            </a:r>
            <a:r>
              <a:rPr b="0" i="1" lang="en-US" sz="2000" spc="-1" strike="noStrike">
                <a:solidFill>
                  <a:srgbClr val="004990"/>
                </a:solidFill>
                <a:latin typeface="Arial"/>
              </a:rPr>
              <a:t>approximations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 about the “truth”, however, observational uncertainties are mostly ignored (seen as minor) in their inter-comparison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Selection of observations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is rarely guided by objective criteria and relies often on data accessibility and institutional proximity (model community is data agnostic when it comes to observations).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Uncertainty estimates provided by the products is often ignored (exceptions: data assimilation), partly because of the lack of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verification concepts that account observational uncertainty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guidance in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uncertainty propag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ing verification ques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61" name="Group 2"/>
          <p:cNvGrpSpPr/>
          <p:nvPr/>
        </p:nvGrpSpPr>
        <p:grpSpPr>
          <a:xfrm>
            <a:off x="2838600" y="4511520"/>
            <a:ext cx="4922640" cy="2059560"/>
            <a:chOff x="2838600" y="4511520"/>
            <a:chExt cx="4922640" cy="2059560"/>
          </a:xfrm>
        </p:grpSpPr>
        <p:pic>
          <p:nvPicPr>
            <p:cNvPr id="562" name="Picture 5" descr=""/>
            <p:cNvPicPr/>
            <p:nvPr/>
          </p:nvPicPr>
          <p:blipFill>
            <a:blip r:embed="rId1"/>
            <a:stretch/>
          </p:blipFill>
          <p:spPr>
            <a:xfrm>
              <a:off x="3009960" y="4852800"/>
              <a:ext cx="147780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9"/>
            <p:cNvSpPr/>
            <p:nvPr/>
          </p:nvSpPr>
          <p:spPr>
            <a:xfrm>
              <a:off x="3199320" y="4511520"/>
              <a:ext cx="90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MUG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4" name="TextBox 11"/>
            <p:cNvSpPr/>
            <p:nvPr/>
          </p:nvSpPr>
          <p:spPr>
            <a:xfrm>
              <a:off x="4787640" y="6179040"/>
              <a:ext cx="297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mate observation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5" name="TextBox 12"/>
            <p:cNvSpPr/>
            <p:nvPr/>
          </p:nvSpPr>
          <p:spPr>
            <a:xfrm>
              <a:off x="2838600" y="6202800"/>
              <a:ext cx="25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mate model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grpSp>
        <p:nvGrpSpPr>
          <p:cNvPr id="566" name="Group 7"/>
          <p:cNvGrpSpPr/>
          <p:nvPr/>
        </p:nvGrpSpPr>
        <p:grpSpPr>
          <a:xfrm>
            <a:off x="2951280" y="4543560"/>
            <a:ext cx="3738600" cy="1769400"/>
            <a:chOff x="2951280" y="4543560"/>
            <a:chExt cx="3738600" cy="1769400"/>
          </a:xfrm>
        </p:grpSpPr>
        <p:sp>
          <p:nvSpPr>
            <p:cNvPr id="567" name="Rectangle 8"/>
            <p:cNvSpPr/>
            <p:nvPr/>
          </p:nvSpPr>
          <p:spPr>
            <a:xfrm>
              <a:off x="6035760" y="4675320"/>
              <a:ext cx="530280" cy="16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5400000">
              <a:off x="3616920" y="5493600"/>
              <a:ext cx="12060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grpSp>
          <p:nvGrpSpPr>
            <p:cNvPr id="569" name="Group 10"/>
            <p:cNvGrpSpPr/>
            <p:nvPr/>
          </p:nvGrpSpPr>
          <p:grpSpPr>
            <a:xfrm>
              <a:off x="4921920" y="4543560"/>
              <a:ext cx="1767960" cy="1725480"/>
              <a:chOff x="4921920" y="4543560"/>
              <a:chExt cx="1767960" cy="1725480"/>
            </a:xfrm>
          </p:grpSpPr>
          <p:pic>
            <p:nvPicPr>
              <p:cNvPr id="57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4921920" y="4734720"/>
                <a:ext cx="1767960" cy="153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TextBox 10"/>
              <p:cNvSpPr/>
              <p:nvPr/>
            </p:nvSpPr>
            <p:spPr>
              <a:xfrm>
                <a:off x="5317560" y="4543560"/>
                <a:ext cx="123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CI SST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1"/>
            <p:cNvSpPr/>
            <p:nvPr/>
          </p:nvSpPr>
          <p:spPr>
            <a:xfrm>
              <a:off x="4249800" y="4557600"/>
              <a:ext cx="531720" cy="16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2951280" y="6081840"/>
              <a:ext cx="144000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 rot="16200000">
              <a:off x="5730120" y="5499360"/>
              <a:ext cx="143964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pic>
        <p:nvPicPr>
          <p:cNvPr id="575" name="Image 3" descr=""/>
          <p:cNvPicPr/>
          <p:nvPr/>
        </p:nvPicPr>
        <p:blipFill>
          <a:blip r:embed="rId3"/>
          <a:stretch/>
        </p:blipFill>
        <p:spPr>
          <a:xfrm>
            <a:off x="1285920" y="1779480"/>
            <a:ext cx="6699240" cy="4792680"/>
          </a:xfrm>
          <a:prstGeom prst="rect">
            <a:avLst/>
          </a:prstGeom>
          <a:ln w="0">
            <a:noFill/>
          </a:ln>
        </p:spPr>
      </p:pic>
      <p:sp>
        <p:nvSpPr>
          <p:cNvPr id="576" name="Text Placeholder 2"/>
          <p:cNvSpPr/>
          <p:nvPr/>
        </p:nvSpPr>
        <p:spPr>
          <a:xfrm>
            <a:off x="396720" y="1033560"/>
            <a:ext cx="949644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CI SST give also globally on average the highest correlation skil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observa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1376280" y="2217600"/>
            <a:ext cx="6143760" cy="4518000"/>
          </a:xfrm>
          <a:prstGeom prst="rect">
            <a:avLst/>
          </a:prstGeom>
          <a:ln w="0">
            <a:noFill/>
          </a:ln>
        </p:spPr>
      </p:pic>
      <p:sp>
        <p:nvSpPr>
          <p:cNvPr id="579" name="Text Placeholder 2"/>
          <p:cNvSpPr/>
          <p:nvPr/>
        </p:nvSpPr>
        <p:spPr>
          <a:xfrm>
            <a:off x="792000" y="1185840"/>
            <a:ext cx="94964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onsider multi-observation as well as multi-model means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Image 3" descr=""/>
          <p:cNvPicPr/>
          <p:nvPr/>
        </p:nvPicPr>
        <p:blipFill>
          <a:blip r:embed="rId1"/>
          <a:stretch/>
        </p:blipFill>
        <p:spPr>
          <a:xfrm>
            <a:off x="2076480" y="544680"/>
            <a:ext cx="4638600" cy="3317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ICOADS 2 degree: Long term mean July sea surface temperature and percent of observations (1981-2010). (Climate Data Guide; D. Shea)"/>
          <p:cNvPicPr/>
          <p:nvPr/>
        </p:nvPicPr>
        <p:blipFill>
          <a:blip r:embed="rId2"/>
          <a:srcRect l="0" t="49624" r="0" b="0"/>
          <a:stretch/>
        </p:blipFill>
        <p:spPr>
          <a:xfrm>
            <a:off x="2158920" y="3862440"/>
            <a:ext cx="44719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 to sample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83" name="Image 3" descr=""/>
          <p:cNvPicPr/>
          <p:nvPr/>
        </p:nvPicPr>
        <p:blipFill>
          <a:blip r:embed="rId1"/>
          <a:stretch/>
        </p:blipFill>
        <p:spPr>
          <a:xfrm>
            <a:off x="396720" y="1709640"/>
            <a:ext cx="837108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Placeholder 2"/>
          <p:cNvSpPr/>
          <p:nvPr/>
        </p:nvSpPr>
        <p:spPr>
          <a:xfrm>
            <a:off x="1692360" y="1349280"/>
            <a:ext cx="6705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Loss of correlation becomes particularly relevant with signal-to-noise ratios &lt; 2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bservational uncertain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586" name="Group 2"/>
          <p:cNvGrpSpPr/>
          <p:nvPr/>
        </p:nvGrpSpPr>
        <p:grpSpPr>
          <a:xfrm>
            <a:off x="1332000" y="2519280"/>
            <a:ext cx="6440400" cy="3405240"/>
            <a:chOff x="1332000" y="2519280"/>
            <a:chExt cx="6440400" cy="3405240"/>
          </a:xfrm>
        </p:grpSpPr>
        <p:pic>
          <p:nvPicPr>
            <p:cNvPr id="587" name="Picture 16" descr=""/>
            <p:cNvPicPr/>
            <p:nvPr/>
          </p:nvPicPr>
          <p:blipFill>
            <a:blip r:embed="rId1"/>
            <a:stretch/>
          </p:blipFill>
          <p:spPr>
            <a:xfrm>
              <a:off x="1332000" y="2519280"/>
              <a:ext cx="644040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Rectangle 1"/>
            <p:cNvSpPr/>
            <p:nvPr/>
          </p:nvSpPr>
          <p:spPr>
            <a:xfrm>
              <a:off x="2295360" y="2690640"/>
              <a:ext cx="2174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l-to-noise ratio SS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1062000" y="1619280"/>
            <a:ext cx="7211880" cy="5040360"/>
          </a:xfrm>
          <a:prstGeom prst="rect">
            <a:avLst/>
          </a:prstGeom>
          <a:ln w="0">
            <a:noFill/>
          </a:ln>
        </p:spPr>
      </p:pic>
      <p:sp>
        <p:nvSpPr>
          <p:cNvPr id="591" name="Text Placeholder 2"/>
          <p:cNvSpPr/>
          <p:nvPr/>
        </p:nvSpPr>
        <p:spPr>
          <a:xfrm>
            <a:off x="250920" y="1079640"/>
            <a:ext cx="949644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ignal (inter-annual variability) versus observational uncertainty (noise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4076640" y="5896080"/>
            <a:ext cx="157500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2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4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ice information for C3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56" name="Picture 4" descr="E:\Dropbox\Presentations\VERITAS\corr_bo.png"/>
          <p:cNvPicPr/>
          <p:nvPr/>
        </p:nvPicPr>
        <p:blipFill>
          <a:blip r:embed="rId1"/>
          <a:stretch/>
        </p:blipFill>
        <p:spPr>
          <a:xfrm rot="5400000">
            <a:off x="2232720" y="389520"/>
            <a:ext cx="5033880" cy="72583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2502000" y="1305000"/>
            <a:ext cx="408600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458" name="Group 2"/>
          <p:cNvGrpSpPr/>
          <p:nvPr/>
        </p:nvGrpSpPr>
        <p:grpSpPr>
          <a:xfrm>
            <a:off x="1468440" y="3135240"/>
            <a:ext cx="6891480" cy="990720"/>
            <a:chOff x="1468440" y="3135240"/>
            <a:chExt cx="6891480" cy="990720"/>
          </a:xfrm>
        </p:grpSpPr>
        <p:sp>
          <p:nvSpPr>
            <p:cNvPr id="459" name="TextBox 13"/>
            <p:cNvSpPr/>
            <p:nvPr/>
          </p:nvSpPr>
          <p:spPr>
            <a:xfrm>
              <a:off x="2033280" y="3418560"/>
              <a:ext cx="168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bff3"/>
                  </a:solidFill>
                  <a:latin typeface="Arial"/>
                </a:rPr>
                <a:t>Ni</a:t>
              </a:r>
              <a:r>
                <a:rPr b="1" lang="de-CH" sz="1800" spc="-1" strike="noStrike">
                  <a:solidFill>
                    <a:srgbClr val="c5bff3"/>
                  </a:solidFill>
                  <a:latin typeface="Arial"/>
                </a:rPr>
                <a:t>ño3.4 SST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60" name="Oval 5"/>
            <p:cNvSpPr/>
            <p:nvPr/>
          </p:nvSpPr>
          <p:spPr>
            <a:xfrm>
              <a:off x="1468440" y="3135240"/>
              <a:ext cx="2430360" cy="990720"/>
            </a:xfrm>
            <a:prstGeom prst="ellipse">
              <a:avLst/>
            </a:prstGeom>
            <a:noFill/>
            <a:ln w="73080">
              <a:solidFill>
                <a:srgbClr val="c5bf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  <p:sp>
          <p:nvSpPr>
            <p:cNvPr id="461" name="TextBox 13"/>
            <p:cNvSpPr/>
            <p:nvPr/>
          </p:nvSpPr>
          <p:spPr>
            <a:xfrm>
              <a:off x="5483520" y="3380760"/>
              <a:ext cx="287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5bff3"/>
                  </a:solidFill>
                  <a:latin typeface="Arial"/>
                </a:rPr>
                <a:t>Which observations?</a:t>
              </a: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462" name="Text Placeholder 2"/>
          <p:cNvSpPr/>
          <p:nvPr/>
        </p:nvSpPr>
        <p:spPr>
          <a:xfrm>
            <a:off x="893880" y="1120680"/>
            <a:ext cx="8030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Summer seasonal forecast skill: EC-Earth3 (T511ORCA0.25)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knowledging joint uncertain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64" name="Picture 159" descr=""/>
          <p:cNvPicPr/>
          <p:nvPr/>
        </p:nvPicPr>
        <p:blipFill>
          <a:blip r:embed="rId1"/>
          <a:stretch/>
        </p:blipFill>
        <p:spPr>
          <a:xfrm>
            <a:off x="1736640" y="1484280"/>
            <a:ext cx="5192640" cy="5235480"/>
          </a:xfrm>
          <a:prstGeom prst="rect">
            <a:avLst/>
          </a:prstGeom>
          <a:ln w="0">
            <a:noFill/>
          </a:ln>
        </p:spPr>
      </p:pic>
      <p:cxnSp>
        <p:nvCxnSpPr>
          <p:cNvPr id="465" name="Straight Arrow Connector 4"/>
          <p:cNvCxnSpPr/>
          <p:nvPr/>
        </p:nvCxnSpPr>
        <p:spPr>
          <a:xfrm>
            <a:off x="3222720" y="4770360"/>
            <a:ext cx="915120" cy="9151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triangle" w="med"/>
          </a:ln>
        </p:spPr>
      </p:cxnSp>
      <p:sp>
        <p:nvSpPr>
          <p:cNvPr id="466" name="Freeform 15"/>
          <p:cNvSpPr/>
          <p:nvPr/>
        </p:nvSpPr>
        <p:spPr>
          <a:xfrm>
            <a:off x="825480" y="1450800"/>
            <a:ext cx="878040" cy="466920"/>
          </a:xfrm>
          <a:custGeom>
            <a:avLst/>
            <a:gdLst/>
            <a:ahLst/>
            <a:rect l="l" t="t" r="r" b="b"/>
            <a:pathLst>
              <a:path w="878541" h="467834">
                <a:moveTo>
                  <a:pt x="878541" y="467834"/>
                </a:moveTo>
                <a:cubicBezTo>
                  <a:pt x="862105" y="246704"/>
                  <a:pt x="845670" y="25575"/>
                  <a:pt x="699247" y="1669"/>
                </a:cubicBezTo>
                <a:cubicBezTo>
                  <a:pt x="552824" y="-22237"/>
                  <a:pt x="107576" y="216823"/>
                  <a:pt x="0" y="3243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44280" y="1754280"/>
            <a:ext cx="17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from the model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468" name="Group 27"/>
          <p:cNvGrpSpPr/>
          <p:nvPr/>
        </p:nvGrpSpPr>
        <p:grpSpPr>
          <a:xfrm>
            <a:off x="2950200" y="1124640"/>
            <a:ext cx="5117400" cy="3464640"/>
            <a:chOff x="2950200" y="1124640"/>
            <a:chExt cx="5117400" cy="3464640"/>
          </a:xfrm>
        </p:grpSpPr>
        <p:grpSp>
          <p:nvGrpSpPr>
            <p:cNvPr id="469" name="Group 25"/>
            <p:cNvGrpSpPr/>
            <p:nvPr/>
          </p:nvGrpSpPr>
          <p:grpSpPr>
            <a:xfrm>
              <a:off x="2950200" y="1124640"/>
              <a:ext cx="5117400" cy="3464640"/>
              <a:chOff x="2950200" y="1124640"/>
              <a:chExt cx="5117400" cy="3464640"/>
            </a:xfrm>
          </p:grpSpPr>
          <p:grpSp>
            <p:nvGrpSpPr>
              <p:cNvPr id="470" name="Group 17"/>
              <p:cNvGrpSpPr/>
              <p:nvPr/>
            </p:nvGrpSpPr>
            <p:grpSpPr>
              <a:xfrm>
                <a:off x="3221280" y="2114280"/>
                <a:ext cx="2656080" cy="2475000"/>
                <a:chOff x="3221280" y="2114280"/>
                <a:chExt cx="2656080" cy="2475000"/>
              </a:xfrm>
            </p:grpSpPr>
            <p:sp>
              <p:nvSpPr>
                <p:cNvPr id="471" name="Straight Connector 8"/>
                <p:cNvSpPr/>
                <p:nvPr/>
              </p:nvSpPr>
              <p:spPr>
                <a:xfrm flipV="1">
                  <a:off x="3221280" y="2114280"/>
                  <a:ext cx="2656080" cy="2475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  <p:sp>
              <p:nvSpPr>
                <p:cNvPr id="472" name="Straight Connector 11"/>
                <p:cNvSpPr/>
                <p:nvPr/>
              </p:nvSpPr>
              <p:spPr>
                <a:xfrm>
                  <a:off x="4332600" y="3149640"/>
                  <a:ext cx="419040" cy="449280"/>
                </a:xfrm>
                <a:prstGeom prst="line">
                  <a:avLst/>
                </a:prstGeom>
                <a:ln w="4752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99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TextBox 18"/>
              <p:cNvSpPr/>
              <p:nvPr/>
            </p:nvSpPr>
            <p:spPr>
              <a:xfrm rot="18972000">
                <a:off x="2589120" y="2493360"/>
                <a:ext cx="351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Observational uncertainty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474" name="TextBox 20"/>
              <p:cNvSpPr/>
              <p:nvPr/>
            </p:nvSpPr>
            <p:spPr>
              <a:xfrm rot="2920800">
                <a:off x="5015160" y="2379960"/>
                <a:ext cx="35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odel uncertainty</a:t>
                </a: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26"/>
            <p:cNvGrpSpPr/>
            <p:nvPr/>
          </p:nvGrpSpPr>
          <p:grpSpPr>
            <a:xfrm>
              <a:off x="4136040" y="1918440"/>
              <a:ext cx="1921320" cy="1231200"/>
              <a:chOff x="4136040" y="1918440"/>
              <a:chExt cx="1921320" cy="1231200"/>
            </a:xfrm>
          </p:grpSpPr>
          <p:sp>
            <p:nvSpPr>
              <p:cNvPr id="476" name="Straight Connector 21"/>
              <p:cNvSpPr/>
              <p:nvPr/>
            </p:nvSpPr>
            <p:spPr>
              <a:xfrm>
                <a:off x="4136040" y="3015000"/>
                <a:ext cx="196560" cy="134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  <p:sp>
            <p:nvSpPr>
              <p:cNvPr id="477" name="Straight Connector 24"/>
              <p:cNvSpPr/>
              <p:nvPr/>
            </p:nvSpPr>
            <p:spPr>
              <a:xfrm flipV="1">
                <a:off x="5878080" y="1918440"/>
                <a:ext cx="179280" cy="196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ition of uncertainti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67000" y="3212640"/>
            <a:ext cx="3538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observational uncertainty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910a"/>
                </a:solidFill>
                <a:latin typeface="Arial"/>
              </a:rPr>
              <a:t>model ensemble size</a:t>
            </a:r>
            <a:r>
              <a:rPr b="0" lang="en-US" sz="18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bff3"/>
                </a:solidFill>
                <a:latin typeface="Arial"/>
              </a:rPr>
              <a:t>length of the verification period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0" name="Text Placeholder 2"/>
          <p:cNvSpPr/>
          <p:nvPr/>
        </p:nvSpPr>
        <p:spPr>
          <a:xfrm>
            <a:off x="657360" y="1317600"/>
            <a:ext cx="803088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omparison to sample uncertainties: observational uncertainty is an important source of verification uncertainty for ENSO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81" name="Picture 8" descr=""/>
          <p:cNvPicPr/>
          <p:nvPr/>
        </p:nvPicPr>
        <p:blipFill>
          <a:blip r:embed="rId1"/>
          <a:stretch/>
        </p:blipFill>
        <p:spPr>
          <a:xfrm>
            <a:off x="657360" y="2349360"/>
            <a:ext cx="479880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6"/>
          <p:cNvSpPr/>
          <p:nvPr/>
        </p:nvSpPr>
        <p:spPr>
          <a:xfrm>
            <a:off x="71280" y="135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Partitioning forecast uncertainty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483" name="Image 4" descr=""/>
          <p:cNvPicPr/>
          <p:nvPr/>
        </p:nvPicPr>
        <p:blipFill>
          <a:blip r:embed="rId1"/>
          <a:stretch/>
        </p:blipFill>
        <p:spPr>
          <a:xfrm>
            <a:off x="746280" y="1844640"/>
            <a:ext cx="7246800" cy="5024520"/>
          </a:xfrm>
          <a:prstGeom prst="rect">
            <a:avLst/>
          </a:prstGeom>
          <a:ln w="0">
            <a:noFill/>
          </a:ln>
        </p:spPr>
      </p:pic>
      <p:sp>
        <p:nvSpPr>
          <p:cNvPr id="484" name="Text Placeholder 2"/>
          <p:cNvSpPr/>
          <p:nvPr/>
        </p:nvSpPr>
        <p:spPr>
          <a:xfrm>
            <a:off x="519120" y="1260360"/>
            <a:ext cx="86169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Verification at high-latitudes is limited by observational uncertainty.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6720" y="27000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s a joint uncertainty assessment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6" name="Text Placeholder 2"/>
          <p:cNvSpPr/>
          <p:nvPr/>
        </p:nvSpPr>
        <p:spPr>
          <a:xfrm>
            <a:off x="611280" y="1349280"/>
            <a:ext cx="832968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CMUG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is an unique platform to bring the modelling and observational community together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towards a joint uncertainty assessment of climate information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Some examples from seasonal forecasting carried out in VERITAS-CCI: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How relevant is the observational uncertainty compared to model uncertaintie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How can we use observational uncertainty estimates from CCI in the modelling community for verification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d9d9"/>
                </a:solidFill>
                <a:latin typeface="Arial"/>
                <a:ea typeface="ＭＳ Ｐゴシック"/>
              </a:rPr>
              <a:t>Can the quality of observational datasets be assessed using climate models?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5T09:51:12Z</dcterms:created>
  <dc:creator>Omar Bellprat</dc:creator>
  <dc:description/>
  <dc:language>en-US</dc:language>
  <cp:lastModifiedBy>Omar Bellprat</cp:lastModifiedBy>
  <dcterms:modified xsi:type="dcterms:W3CDTF">2017-02-15T09:51:52Z</dcterms:modified>
  <cp:revision>1</cp:revision>
  <dc:subject/>
  <dc:title>PowerPoint Presentation</dc:title>
</cp:coreProperties>
</file>